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92E-E0BF-4453-992E-410DB25A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41A-B26A-4CDA-88CC-FE894B31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228-8CEB-41CB-9C3F-EDB12461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3CB-9498-4D19-85ED-2970B3BC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F88-5C9A-458C-83A6-00186771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6ED2-F60A-4779-9153-3B32931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FE2F-093D-4C9D-B76D-141B10ED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423D-3646-468C-A508-F7E44D79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9A8-67B7-4DE6-8466-6F32F539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8DF0-3957-44C4-9DD6-736F91B4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1FCA-844F-4C39-A43C-0B5D5426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62B-E2D4-432E-A8EB-8328BF6C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A97-0E06-4DCA-B3F1-B1F920F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A31E-01B7-4CA8-874F-028CF1E9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EA61-A43F-4BC0-8294-88559595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A26D-CC00-488B-9841-D3BA04FF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9C03-488C-495A-8D5B-EB395AE4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A270-FDE5-4DC3-880D-865CD0A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0CF-0412-4443-A8CA-101BC197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9ED-DFF6-4778-9D0A-A7AA231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CE2-8DA4-49FE-BDD1-395D3541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862-EEA5-475E-A268-FE588E3B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542-AC4D-4D3D-B658-C432438D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489-BE10-40C7-9F5B-2BF2C08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DC7-F76B-4D30-B6EB-24C3FCDF7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7702-EDB4-4AFE-BF09-A25E85A85F5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eachercompass.pearsoncmg.com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tudent Achievement Through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Teacher Evaluat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Jane Coughen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Karen Chap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r. Michael Mat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R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s are encouraged to infuse specific targeted instructional strategies into their lesson design to increa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teacher eng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tudent eng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al rig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ment for lear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l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er level employees receive a formal observ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 observations were constructed to coincide with the PDE-426 and PDE- 5501 rating for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 employees are evaluated in 4 domai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l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domains highlighted in formal observation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and pr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ionalis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35"/>
          <p:cNvGraphicFramePr/>
          <p:nvPr/>
        </p:nvGraphicFramePr>
        <p:xfrm>
          <a:off x="2362320" y="228600"/>
          <a:ext cx="51228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51228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85"/>
          <p:cNvGraphicFramePr/>
          <p:nvPr/>
        </p:nvGraphicFramePr>
        <p:xfrm>
          <a:off x="2209680" y="152280"/>
          <a:ext cx="5011920" cy="64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280"/>
                    <a:ext cx="501192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l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s 15 minutes in leng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 observations may be conducted on Level II professional employ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mmary is written of components seen during the observ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r looking for components of the district mot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DISCOURSE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personal academic go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m I to ass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if my students don’t show growt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growth do students need to sh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I receive an unsatisfactory ra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s’ Academic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 must address a standard within the teachers’ grade level and/or academic ar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 is to be attainable and not all encompa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 is to be submitted to building administrator for appro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s’ Academic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is to collect data by testing students on the academic goal cho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ary teachers tes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teachers test every student of that course /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given at the start of the school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data collection tool used after May 15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to submit data to building principal as evidence of student growth / re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2209680" y="304920"/>
          <a:ext cx="4859280" cy="62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920"/>
                    <a:ext cx="4859280" cy="62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Committ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ff at McKeesport Area School district worked to create an evaluation process that culminates with a teacher showing evidence of student grow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ct motto “Move, Engage, Assess” drives components of the evaluation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evaluation committee includ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ant Superinten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 of Federal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ct Technology Integ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 M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teacher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676520" y="380880"/>
          <a:ext cx="6705360" cy="575172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</a:tblGrid>
              <a:tr h="17784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 NA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LINE SCO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L SCO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 / -  GROW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4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3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4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3070800" y="20318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____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Comp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teachercompass.pearsoncmg.co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Compa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Compass is an on-line program that houses all district observations / eval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rts can be generated for individual teachers and the buil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s for professional development are available to attach to teacher observation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Compa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 of Teacher Compa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li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s for profession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teacher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report for Walk-throug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for building / teacher strengths and conc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Central Office Administrator to each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district wide walkthrough and instructional round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on of a teachers’ personal academic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an online software package to collect and analyze data from teacher walkthrough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, Engage, Ass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 engagement and discourse drives instruction throug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ve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ive assessmen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thinki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vel questi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is a facilitator in the classroom, not a lectur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, Engage, Ass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drive instruction, not subject cont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ve assessment is an essential component of instruction achieved through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whitebo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et out the d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ur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Observation Too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lk-throug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al 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al Obser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l Obser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achers’ Personal Academic Go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lk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-through is conducted 2 or 3 times monthly for each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s only 5 minutes in leng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r looking for components of district motto “Move, Engage, Asses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-through is not evaluativ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10"/>
          <p:cNvGraphicFramePr/>
          <p:nvPr/>
        </p:nvGraphicFramePr>
        <p:xfrm>
          <a:off x="2133720" y="22860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R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motto drives what is observed during an Instructional 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al rounds may consist of a principal, curriculum director, teacher(s), and/or central administ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al rounds last 20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group discussion to discuss group members’ observatio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23:57:34Z</dcterms:created>
  <dc:creator>user</dc:creator>
  <dc:description/>
  <dc:language>en-US</dc:language>
  <cp:lastModifiedBy>ChapmanK</cp:lastModifiedBy>
  <dcterms:modified xsi:type="dcterms:W3CDTF">2012-03-21T17:22:22Z</dcterms:modified>
  <cp:revision>32</cp:revision>
  <dc:subject/>
  <dc:title>Student Achievement Through Teacher Evaluation </dc:title>
</cp:coreProperties>
</file>